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B957-2BE4-453E-8DE1-BD8ADEE60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A413-B904-4995-B3A3-664A771A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F6C2-E6AB-41A4-B721-083E25ED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906C-66FE-4AC1-B051-AE54FFC445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1E581-00F7-4CD5-BD42-8E8476CC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67D83-A99D-445D-94C9-CCE6C788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DE0C6-34B5-4EF4-AE83-E38E66EC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4A85A-ABB6-4314-ABF1-5BDCAFD6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53EA3-982F-41E5-AB67-FE08864F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815840" y="274680"/>
            <a:ext cx="71816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A3D15-5F77-4B30-8415-492ACD54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04ED1-5C0C-4279-A722-CC9BFABA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CABF-8D93-43BD-9072-59C748C9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BF849-2B7B-4A71-8481-4712381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040EC-0F7F-4BEF-A0ED-C63A0BAC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34513-80E1-43D2-823A-6DC76CE2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41273-9CEE-42F0-9922-6773DED7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500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0964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52428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ED13B-6925-4B23-B0AB-4579095A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3D63-5454-4C35-962A-82FDD5DD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3883-64D6-4120-9B36-E1EDDAB4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F222-0EF3-4B53-8F17-8BBD0AD1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15840" y="274680"/>
            <a:ext cx="71816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8C05-DC5C-4CA7-AAC5-A7410A6E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A884-B56C-4D2C-8A09-A0B0A1A5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4F96-CCD7-44C6-968E-3104F816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DEB6-9AD5-40A0-8F02-7B977D08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919800" cy="911520"/>
            <a:chOff x="0" y="285480"/>
            <a:chExt cx="99198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9169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897000" y="285120"/>
              <a:ext cx="60141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636660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90612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00" y="1235160"/>
            <a:ext cx="989316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Untitled-1 copy" descr=""/>
          <p:cNvPicPr/>
          <p:nvPr/>
        </p:nvPicPr>
        <p:blipFill>
          <a:blip r:embed="rId2"/>
          <a:stretch/>
        </p:blipFill>
        <p:spPr>
          <a:xfrm>
            <a:off x="272880" y="382680"/>
            <a:ext cx="78120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Untitled-1 copy" descr=""/>
          <p:cNvPicPr/>
          <p:nvPr/>
        </p:nvPicPr>
        <p:blipFill>
          <a:blip r:embed="rId3"/>
          <a:stretch/>
        </p:blipFill>
        <p:spPr>
          <a:xfrm>
            <a:off x="1054080" y="765000"/>
            <a:ext cx="38880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95360" y="6476760"/>
            <a:ext cx="2311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d528d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d528d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7098840" y="6476760"/>
            <a:ext cx="2311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930F-5C60-4BC2-90FD-2B543C2774BE}" type="slidenum">
              <a: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520" y="2394000"/>
          <a:ext cx="983484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520" y="2394000"/>
                    <a:ext cx="983484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38160" y="4292640"/>
            <a:ext cx="9829440" cy="2521080"/>
            <a:chOff x="38160" y="4292640"/>
            <a:chExt cx="9829440" cy="2521080"/>
          </a:xfrm>
        </p:grpSpPr>
        <p:sp>
          <p:nvSpPr>
            <p:cNvPr id="51" name=""/>
            <p:cNvSpPr/>
            <p:nvPr/>
          </p:nvSpPr>
          <p:spPr>
            <a:xfrm>
              <a:off x="38160" y="4292640"/>
              <a:ext cx="982944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160" y="4292640"/>
              <a:ext cx="982944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8160" y="44280"/>
            <a:ext cx="982980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5400" y="0"/>
            <a:ext cx="9910800" cy="6857280"/>
            <a:chOff x="-5400" y="0"/>
            <a:chExt cx="9910800" cy="6857280"/>
          </a:xfrm>
        </p:grpSpPr>
        <p:sp>
          <p:nvSpPr>
            <p:cNvPr id="55" name=""/>
            <p:cNvSpPr/>
            <p:nvPr/>
          </p:nvSpPr>
          <p:spPr>
            <a:xfrm>
              <a:off x="41400" y="38160"/>
              <a:ext cx="982296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0" y="0"/>
              <a:ext cx="4950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191000">
              <a:off x="-63360" y="6381720"/>
              <a:ext cx="533520" cy="4158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768800">
              <a:off x="9491400" y="6399000"/>
              <a:ext cx="3988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9429120" y="-18720"/>
              <a:ext cx="457200" cy="4950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5120" y="99036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d528d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d528d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3AF3-4F59-4DC6-B776-8766F73AB986}" type="slidenum">
              <a: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689200" y="2895480"/>
            <a:ext cx="2923920" cy="1041480"/>
            <a:chOff x="2689200" y="2895480"/>
            <a:chExt cx="2923920" cy="1041480"/>
          </a:xfrm>
        </p:grpSpPr>
        <p:pic>
          <p:nvPicPr>
            <p:cNvPr id="65" name="Untitled-1 copy" descr=""/>
            <p:cNvPicPr/>
            <p:nvPr/>
          </p:nvPicPr>
          <p:blipFill>
            <a:blip r:embed="rId4"/>
            <a:stretch/>
          </p:blipFill>
          <p:spPr>
            <a:xfrm>
              <a:off x="4092480" y="2895480"/>
              <a:ext cx="101484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Untitled-1 copy" descr=""/>
            <p:cNvPicPr/>
            <p:nvPr/>
          </p:nvPicPr>
          <p:blipFill>
            <a:blip r:embed="rId5"/>
            <a:stretch/>
          </p:blipFill>
          <p:spPr>
            <a:xfrm>
              <a:off x="5185080" y="3541680"/>
              <a:ext cx="4280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Untitled-1 copy" descr=""/>
            <p:cNvPicPr/>
            <p:nvPr/>
          </p:nvPicPr>
          <p:blipFill>
            <a:blip r:embed="rId6"/>
            <a:stretch/>
          </p:blipFill>
          <p:spPr>
            <a:xfrm>
              <a:off x="2689200" y="3327480"/>
              <a:ext cx="62388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92160" y="404280"/>
            <a:ext cx="769464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 (1984, 19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001000" y="304920"/>
            <a:ext cx="1295280" cy="1904760"/>
            <a:chOff x="8001000" y="304920"/>
            <a:chExt cx="1295280" cy="1904760"/>
          </a:xfrm>
        </p:grpSpPr>
        <p:sp>
          <p:nvSpPr>
            <p:cNvPr id="107" name=""/>
            <p:cNvSpPr/>
            <p:nvPr/>
          </p:nvSpPr>
          <p:spPr>
            <a:xfrm>
              <a:off x="8001000" y="304920"/>
              <a:ext cx="1295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8155080" y="448560"/>
              <a:ext cx="987120" cy="161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any organisations which hold personal information about individual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Loyalty Card Schem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Doctor / Dentist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Bank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CBF6-BF91-4BD6-957E-0FB93DC050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The Data Protection Act (1998) states that organisations which store personal information must register and state the purpose for which they need the inform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8EA0-EFE2-4712-8D2E-38CCF5F33B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ATA CONTROLLER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e people and organisations who store and process personal dat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Verdana"/>
              </a:rPr>
              <a:t>DATA SUBJECT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e people on whom data is being stored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7C09-B20E-4CE7-9452-CF992ED1C0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DATA MUST B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Processed fairly and lawfully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Processed for limited purpo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Adequate, relevant and not excessiv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Accurat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Not kept longer than necessary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Processed in accordance with the data subjects’ righ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Kept secur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Not transferred to any country outside the EU without similar legislation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C5FD-E588-4BBF-82F7-DA43283C52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THE INDIVIDUAL HAS THE RIGHT TO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View the data stored about them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Have the data changed if it is incorrec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There is usually a fee of £10 to be paid to view your record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You have to provide proof of identity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You should receive an answer within 40 day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7460-D8FB-4CA4-8687-A98E56CF39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THERE ARE EXCEPTION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You cannot see data being held on you if it is being collected to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Prevent a crim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Ensure National Security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Calculating Taxes and V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7E35-2387-44B8-B1F5-1630E3044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EXEMPTIONS FROM THE ACT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Some organisations do not have to register to hold data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Not for profit charit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Data held for personal or family us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Data held to calculate wages or tax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Sports clubs (if not a limited company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1101-888A-4996-8523-F30AD0C3E4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21:52:11Z</dcterms:created>
  <dc:creator/>
  <dc:description/>
  <cp:keywords/>
  <dc:language>en-US</dc:language>
  <cp:lastModifiedBy>Hellen_hnd</cp:lastModifiedBy>
  <dcterms:modified xsi:type="dcterms:W3CDTF">2007-03-02T10:00:37Z</dcterms:modified>
  <cp:revision>1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412052</vt:lpwstr>
  </property>
</Properties>
</file>